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6CA-EE88-49B3-A473-24B20B28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6A2-EE9C-47EF-B72E-64C660C3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801-6BE5-4E93-9113-36619C29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6A95-D572-49BA-BCD2-B3E5C95B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0F1-A202-415A-8E21-829649D9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E36-F30A-4344-859C-66F42A58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4EE-484E-4643-8E38-5C3DF0E2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50C-AB68-40BD-9DBA-FD82FF2D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31F-AF3B-44C5-8358-E3B33CE2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E4E-F442-4E8F-BB5D-5F6C649E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4E6-855B-4531-906B-705F7060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A5E-AB5D-44EB-8769-671C0DDD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EB22-9411-4461-AB49-92546D73777C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Questo è un programma automatico per la gestione della remunerazione 2008.Rispondete per favore alle seguenti domande.Le vostre risposte saranno la base di discussi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er continuare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164360" y="6308640"/>
            <a:ext cx="16477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ww.carloneworld.it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Ritenete che il vostro stipendio sia conforme alle vostre prestazioni e capacità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04240" y="609588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liccate sulla casella corrispondente alla vostra rispos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Ritenete che il vostro stipendio sia conforme alle vostre prestazioni e capacità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1752480" y="44197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04240" y="609588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liccate sulla casella corrispondente alla vostra rispos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Ritenete che il vostro stipendio sia conforme alle vostre prestazioni e capacità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5410080" y="42670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04240" y="609588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liccate sulla casella corrispondente alla vostra rispos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Molto bene! Passiamo ora al Bonus 2007. Ritenete di meritarvel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04240" y="609588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liccate sulla casella corrispondente alla vostra rispos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Molto bene! Passiamo ora al Bonus 2007. Ritenete di meritarvel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1752480" y="4419720"/>
            <a:ext cx="137160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04240" y="609588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liccate sulla casella corrispondente alla vostra rispos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Molto bene! Passiamo ora al Bonus 2007. Ritenete di meritarvel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4267080"/>
            <a:ext cx="137160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04240" y="609588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liccate sulla casella corrispondente alla vostra rispos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Bene! Mi fa molto piacere essere d’accordo con voi. 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Ora tornate al lavo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Buona giorn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Il Ca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3429000" y="5867280"/>
            <a:ext cx="2286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er continua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8520" y="4800600"/>
            <a:ext cx="80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La vostra risposta è stata inoltrata automaticamente all’ufficio del personale.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Grazie per le vostre risposte.</a:t>
            </a:r>
            <a:br>
              <a:rPr sz="4400"/>
            </a:b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Il vostro stipendio rimarrà di conseguenza invariato nel 2008.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bbiamo inoltre preso atto della vostra volontaria rinuncia al BONUS per l’esercizio 2007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04000" y="6308640"/>
            <a:ext cx="208296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ww.carloneworld.i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xit" presetID="24">
                                  <p:stCondLst>
                                    <p:cond delay="1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8:50:22Z</dcterms:created>
  <dc:creator/>
  <dc:description>www.carloneworld.it</dc:description>
  <dc:language>en-US</dc:language>
  <cp:lastModifiedBy>Carlo</cp:lastModifiedBy>
  <dcterms:modified xsi:type="dcterms:W3CDTF">2007-09-04T20:38:52Z</dcterms:modified>
  <cp:revision>31</cp:revision>
  <dc:subject/>
  <dc:title>Vuoi un aumento il prossimo anno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I:\Dati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